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51F-8C7E-40D3-A947-0BE1B1C1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DF6-4CEA-4328-B118-9880CCDC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D0F-C1C5-46B1-BAC7-4803B177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8F0-1B4A-4F62-BD23-8A726E17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026-AE64-4061-A618-041970E3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813-E651-4344-B8D7-420B492C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676-CA3A-44EC-8FEA-A4BED8BF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C2A-1E51-4258-B7B1-3301B5A7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81D-4E27-4735-8292-CC877E88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061-45AE-4C17-B71D-98B47491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556-C60D-42E8-9A19-15F7E699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B3A-2792-4384-BBE4-7B19C7C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4C1C-F0AE-40E7-BBB3-5B8F1BBCD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229600" cy="4647960"/>
          </a:xfrm>
          <a:prstGeom prst="wedgeRoundRectCallout">
            <a:avLst>
              <a:gd name="adj1" fmla="val -48087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ON GIORNO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A POSSO FARE PER LE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305920" cy="4647960"/>
          </a:xfrm>
          <a:prstGeom prst="wedgeRoundRectCallout">
            <a:avLst>
              <a:gd name="adj1" fmla="val -10666"/>
              <a:gd name="adj2" fmla="val 7940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RREI VIAGGIARE 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O M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 PIACEREBBE VISITARE ALM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 IMPORTANTI CITTA’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9939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NISSIM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CO COSA POSSIAMO F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OTIAMO AEREO 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BERGO CON LA PRI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PPA A RO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8600"/>
            <a:ext cx="8077320" cy="4724280"/>
          </a:xfrm>
          <a:prstGeom prst="wedgeRoundRectCallout">
            <a:avLst>
              <a:gd name="adj1" fmla="val -3106"/>
              <a:gd name="adj2" fmla="val 8000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ET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REI FERMARMI A RO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 CINQUE GIOR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I’ POTRO’ VED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UMENTI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ITARE QUALCHE MUSE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04920"/>
            <a:ext cx="8382240" cy="4647960"/>
          </a:xfrm>
          <a:prstGeom prst="wedgeRoundRectCallout">
            <a:avLst>
              <a:gd name="adj1" fmla="val -4810"/>
              <a:gd name="adj2" fmla="val 8050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 CE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ROMA SI PUO’ VEDERE MOLTO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NQUE GIOR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GGERA’ ALL’ALBERGO ITALI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SO LA STAZIONE TERMI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3106"/>
              <a:gd name="adj2" fmla="val 8050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’ IN ZONA CENTRA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8077320" cy="5105160"/>
          </a:xfrm>
          <a:prstGeom prst="wedgeRoundRectCallout">
            <a:avLst>
              <a:gd name="adj1" fmla="val -41550"/>
              <a:gd name="adj2" fmla="val 7213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, E’ PROPRIO AL CENT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PUO’ PRENDERE I MEZZ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 QUALUNQUE DESTINAZI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POI, COL TRENO, PUO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GGIUNG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ENZ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1550"/>
              <a:gd name="adj2" fmla="val 8415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TO BE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ENZE E’ UNA CITTA’ CHE 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PRE VOLU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D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 PIACEREBBE FERMARM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 ALMENO TRE GIOR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1550"/>
              <a:gd name="adj2" fmla="val 8415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AMO ANCHE FARE QUATT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I PUO’ GIRARE LA TOSCAN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ITARE PIS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ENA E LA COSTA TIRREN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1550"/>
              <a:gd name="adj2" fmla="val 8415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 BE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PER ULTIMO VORREI VED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REGIONI DELL’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ARI VISITARE L’UMBR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UMBRIA E’ BELLISSI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O’ LASCIARE LA MATT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 IN TR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RIVARE A PERU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RE 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UGLIO TROVERA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NTA MUS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9939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ON GIOR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LEVO QUALCHE INFORM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RCA UN VIAGG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ITAL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S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A C’E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 SPECIALE A PERUG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 LA MUS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04920"/>
            <a:ext cx="8305920" cy="4647960"/>
          </a:xfrm>
          <a:prstGeom prst="wedgeRoundRectCallout">
            <a:avLst>
              <a:gd name="adj1" fmla="val 32050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’ UMBRIA JAZ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 FAMOSA RASSEGNA MUSICAL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 PERSONAGGI NO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 IMPORTANTI NEL MOD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 JAZ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TT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 ADORO LA MUSICA JAZ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ORA, QUANDO S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NTI I BIGLIETT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VE DIRMI COME V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AGGIAR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PRIMA CLAS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IN ECONOM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CIA TUTTO IN PR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O VIAGG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GLIO PROPRIO GODERMEL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NISSI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RA SAREMO INTOR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 MILLE EU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TO COMPRE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 I BIGLIETTI SARANNO PRO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RINGRAZIO DI TUT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RNERO’ DOMANI POMERIGG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RIVEDERCI E GRAZ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9939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’ DAVVERO CAPITATO NEL PO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USTO E AL MO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US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IAMO APPENA RICEVU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NUOVO CATALO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04920"/>
            <a:ext cx="8458200" cy="4647960"/>
          </a:xfrm>
          <a:prstGeom prst="wedgeRoundRectCallout">
            <a:avLst>
              <a:gd name="adj1" fmla="val -49944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LENDID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O INTERESSATO A VISIT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ITALIA CENTRA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ULTIMA VOLTA CHE S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O IN ITALIA HO VISTO L’ITAL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 NO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9939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RA QUESTA VOL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PUO’ DEDICARE ALLE BELLEZ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TISTICHE DI REG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E LA TOSCANA, L’UM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LAZIO E LE MAR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RENDO IL CATALO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9939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GRAZIE.  VORREI VED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PIU’ SULLA STORIA E L’AR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ITAL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 E’ LA CITTA’ PIU’ RICC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O LEI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MONUMENTI E MUSE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04920"/>
            <a:ext cx="8077320" cy="5257800"/>
          </a:xfrm>
          <a:prstGeom prst="wedgeRoundRectCallout">
            <a:avLst>
              <a:gd name="adj1" fmla="val -9550"/>
              <a:gd name="adj2" fmla="val 6440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PEN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MA E’ MOLTO GRANDE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’ COSI’ TA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 VEDERE!  PIAZZE, MUSEI,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NTAN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 ANCHE FIRENZE, ASSIS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UGIA, ORVI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O TUTTE BELLISS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9550"/>
              <a:gd name="adj2" fmla="val 7940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 SO!  UNO VORREB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DERE PROPRIO TUTT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 IO HO SOL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E SETTIMANE DI FE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A MI CONSIGL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304920"/>
            <a:ext cx="8458200" cy="4647960"/>
          </a:xfrm>
          <a:prstGeom prst="wedgeRoundRectCallout">
            <a:avLst>
              <a:gd name="adj1" fmla="val -11375"/>
              <a:gd name="adj2" fmla="val 7940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SIAMO ORGANIZZ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VIAGGIO AD ITINERAR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FERISCE VIAGGIARE DA SOL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ON GRUPPI ORGANIZZAT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2:12:51Z</dcterms:created>
  <dc:creator>Preferred Customer</dc:creator>
  <dc:description/>
  <dc:language>en-US</dc:language>
  <cp:lastModifiedBy>VALERIA PALLADINO</cp:lastModifiedBy>
  <cp:lastPrinted>2002-09-04T02:39:53Z</cp:lastPrinted>
  <dcterms:modified xsi:type="dcterms:W3CDTF">2003-10-16T15:21:19Z</dcterms:modified>
  <cp:revision>3</cp:revision>
  <dc:subject/>
  <dc:title>No Slide Title</dc:title>
</cp:coreProperties>
</file>